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4061206"/>
        <c:axId val="29149481"/>
      </c:barChart>
      <c:catAx>
        <c:axId val="2406120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149481"/>
        <c:crosses val="autoZero"/>
        <c:auto val="1"/>
        <c:lblAlgn val="ctr"/>
        <c:lblOffset val="100"/>
        <c:noMultiLvlLbl val="0"/>
      </c:catAx>
      <c:valAx>
        <c:axId val="2914948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06120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777F-04DE-47B1-B610-58D0C97B2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AC66-3F88-4665-9E4D-F64510187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2A57-D262-4743-8559-F639CB40F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655C-8D56-446A-B915-91BAF6C18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74BA-7A7E-45DE-9033-219151B9B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70BB-D2F8-4F1E-B43C-894BE801B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2F8F-E0FB-4413-AA32-2FBB42A92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4821-6ADF-4745-92F7-1E5219785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34B6-0A7F-42F6-B5C6-B00930583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AEDF-20A0-4B1F-B3A8-43E78F040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71F1-DE17-41E4-8ED3-F1C8CD006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55E8-B81E-4499-8B11-F5F05E949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72C66B-DD6A-4B9E-B9A3-16660B3A967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