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79482"/>
        <c:axId val="11545178"/>
      </c:barChart>
      <c:catAx>
        <c:axId val="79079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5178"/>
        <c:crosses val="autoZero"/>
        <c:auto val="1"/>
        <c:lblAlgn val="ctr"/>
        <c:lblOffset val="100"/>
        <c:noMultiLvlLbl val="0"/>
      </c:catAx>
      <c:valAx>
        <c:axId val="11545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79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3AA-7A11-4431-BAFB-10BD1EF1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3CB-36A5-4727-A519-9F9C852A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57A-1ABE-4F74-9CE3-E864EBB7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EB5-17A5-4A00-80BE-EF69CB9D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211-3B6D-440F-8CD7-822FA1C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222-39AF-4E80-AFF8-4AEA205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891-F6FA-417B-B702-0DCFC25B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B76-AD55-4B8C-8DD4-E94EFB2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0EC-7EC8-4107-A9E2-DAD9C5E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93E-2FA7-4D11-B209-8186D0D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A30-C7FF-4C75-AE35-C43A7DE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BAF-CB96-4D85-8138-042B008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FB3E3-F26C-41C9-9710-78C49B9154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