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6729849"/>
        <c:axId val="91546152"/>
      </c:barChart>
      <c:catAx>
        <c:axId val="3672984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46152"/>
        <c:crosses val="autoZero"/>
        <c:auto val="1"/>
        <c:lblAlgn val="ctr"/>
        <c:lblOffset val="100"/>
        <c:noMultiLvlLbl val="0"/>
      </c:catAx>
      <c:valAx>
        <c:axId val="915461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672984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AA30-F18A-4FBE-861A-B4A416027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1ED0-7A1E-44BB-9EAB-58B32BD9F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D0929-953A-45DC-B05E-ABACFA584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B7CD-367B-4807-8577-F0DA2E698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4CC5-474A-44A0-A495-F9B370DC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268D6-53CE-48B2-A29B-F677F240B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1AC-8FE1-405F-80F4-1EBD93A55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9E50E-33B9-4A10-B9FE-56EF36AD2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8E3FE-E9E7-443F-90F9-2EF7945D0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E656-E862-48FC-AD34-675DEFAF4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89E8-F41F-4B4F-BDB1-E1FE596F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BC0C2-F47C-458E-84CC-82A1C61B8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F945E7-921B-482C-A52E-6192D3ED5F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