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45876"/>
        <c:axId val="94761392"/>
      </c:barChart>
      <c:catAx>
        <c:axId val="34345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1392"/>
        <c:crosses val="autoZero"/>
        <c:auto val="1"/>
        <c:lblAlgn val="ctr"/>
        <c:lblOffset val="100"/>
        <c:noMultiLvlLbl val="0"/>
      </c:catAx>
      <c:valAx>
        <c:axId val="94761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45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D12-9155-4128-8F46-7440EA03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60D-68DA-4286-94CA-7A32BF7A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513-0167-4DAF-BEB3-3A92F272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623-B16D-4EC1-9B02-D031AF02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875-641A-4B8B-9F87-BBCE8509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872-3A78-478B-82B2-8031AA82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723-063C-46DC-8D45-A478A480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6C5-95FB-4759-8584-18E06813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9E9-D45F-421A-8AC1-1C60B48D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B49-04ED-401A-8438-60BD52FC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39D-230C-4E4D-A77F-D108EE7C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8CA-6C42-412A-AE27-4C62E60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F07AC-8959-4C36-8DA6-ED2DB2951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