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39774"/>
        <c:axId val="70768611"/>
      </c:barChart>
      <c:catAx>
        <c:axId val="13239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8611"/>
        <c:crosses val="autoZero"/>
        <c:auto val="1"/>
        <c:lblAlgn val="ctr"/>
        <c:lblOffset val="100"/>
        <c:noMultiLvlLbl val="0"/>
      </c:catAx>
      <c:valAx>
        <c:axId val="70768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9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794-F57D-46E8-BB29-C7CB3A6C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BA5-9566-4628-850A-ED8DB7DB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56D-E357-494A-B942-6204C17E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5B2-1CFD-466E-B023-415700CB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F3A-BF2A-4C24-9C82-39DDADE5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021-C557-4759-85E3-30E5471B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F46-FEFD-4F93-B72A-87C9F980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221-CB45-47C7-B102-2B6CEE9F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98C-0FC8-4177-94C7-06A04E73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5CC-173D-4A5A-B8A9-6B51AFB8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AD4-3D4E-43E9-AB13-CE257A05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9BC-4FE9-4258-BC6E-0752B662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CF6A6-6A82-47AC-BCB9-49FA6BC65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