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55588"/>
        <c:axId val="25143660"/>
      </c:barChart>
      <c:catAx>
        <c:axId val="710555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43660"/>
        <c:crosses val="autoZero"/>
        <c:auto val="1"/>
        <c:lblAlgn val="ctr"/>
        <c:lblOffset val="100"/>
        <c:noMultiLvlLbl val="0"/>
      </c:catAx>
      <c:valAx>
        <c:axId val="251436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555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D73A-65B1-4A77-B542-8BEA820C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D321-69E3-43DE-AFC8-40A01A0D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4B53-583B-4311-AEA1-91E5DCE1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5293-C1DA-4C52-8A9D-9983F7C0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1D0D-1BFA-413D-99DC-D7F0E79E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24F3-7DAA-47E1-95EE-36BE0D72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EC50-92D5-47DC-A03E-38B18DDE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5291-1B9E-420A-871A-12B36214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A733-0FC3-467C-A8EF-7D987D37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787C-D5B9-433F-A7E9-A4EC8C24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9937-B2DC-4921-9393-39E2617B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4F48-01A6-4D19-93C2-3D27B8E0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7CC53-BA90-4142-9844-69F6A18588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