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81817"/>
        <c:axId val="20621342"/>
      </c:barChart>
      <c:catAx>
        <c:axId val="60881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21342"/>
        <c:crosses val="autoZero"/>
        <c:auto val="1"/>
        <c:lblAlgn val="ctr"/>
        <c:lblOffset val="100"/>
        <c:noMultiLvlLbl val="0"/>
      </c:catAx>
      <c:valAx>
        <c:axId val="20621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81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6D0-2F56-4224-A4BC-5711C455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215-15B2-4760-A3C8-E83FF531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CA7-D50F-4F88-91A7-09130B0D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F8D-0F2C-4E71-B7D0-264366AB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3A6-612F-4DF9-91DD-F4F644CA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AA0-352E-4670-87C0-DCA92DDA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CB4-8871-4A96-B212-0D4BE6C1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029-9003-47CD-9AB4-9C79B74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D8B-7204-4D7D-9C2E-96888160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092-5D5C-4D44-A2A0-88B9EB80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E6F-EB4B-43F0-A87E-B0500768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D81-367B-499F-A660-63EA936C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3B271-0A1E-4E1D-87CB-FA98B7504B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