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36984"/>
        <c:axId val="70922334"/>
      </c:barChart>
      <c:catAx>
        <c:axId val="57436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22334"/>
        <c:crosses val="autoZero"/>
        <c:auto val="1"/>
        <c:lblAlgn val="ctr"/>
        <c:lblOffset val="100"/>
        <c:noMultiLvlLbl val="0"/>
      </c:catAx>
      <c:valAx>
        <c:axId val="70922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36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FF2-3F7E-4EC4-B409-0AD04524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A010-7EAC-490C-98A7-9385133E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1D9-1044-4791-BC13-02BEC7E9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F66-A720-450A-90A8-A8427E6D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040-04FD-4F88-B4C1-41F19456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843-3784-4B66-8BF9-284A8304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71C-7737-4AE5-AA8C-1F4985B9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E76-E278-4F06-805A-14F11FCF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E73-6093-4538-8140-80CEAC4E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DE6-B13C-4FC4-85D4-F8087A9F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EFB-9526-4788-9E8F-5B18EE39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C26-E8A3-497F-B41C-5F90C5B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8E5C9-626E-47AD-8464-199C9A737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