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48322"/>
        <c:axId val="41893332"/>
      </c:barChart>
      <c:catAx>
        <c:axId val="17648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93332"/>
        <c:crosses val="autoZero"/>
        <c:auto val="1"/>
        <c:lblAlgn val="ctr"/>
        <c:lblOffset val="100"/>
        <c:noMultiLvlLbl val="0"/>
      </c:catAx>
      <c:valAx>
        <c:axId val="41893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48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6FF-C4C7-4469-96F7-C3AAA501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0CF-0D73-4635-AD22-DD845BB1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314-B72E-4BF0-91BA-72BA8B51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C34-74FA-401F-95EE-0BF24109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868-DD4C-4D20-BE12-FBC46A3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352-2ABC-4A9C-9364-4074128E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A05-B984-4042-A8B3-6CB47C97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B25-C4D2-45F6-946E-166C955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48C-1193-444E-B992-E2FB310B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D04-9E38-4BEA-91C3-7DBCC8D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170-D71C-4B53-988E-4C1D38A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9C9-2E45-4B6D-AAA3-6C81D580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7150B-34B6-4612-8114-19070E50D8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