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89952"/>
        <c:axId val="61047617"/>
      </c:barChart>
      <c:catAx>
        <c:axId val="105899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7617"/>
        <c:crosses val="autoZero"/>
        <c:auto val="1"/>
        <c:lblAlgn val="ctr"/>
        <c:lblOffset val="100"/>
        <c:noMultiLvlLbl val="0"/>
      </c:catAx>
      <c:valAx>
        <c:axId val="61047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899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8AF-1379-49EC-87C1-13B270016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CA1-2EC0-47FA-AA76-FB88BD6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FE3-D1B1-4E55-BAE2-9C9D4255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1DE4-B251-4013-A82B-56A1FB36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A60-55E7-46BF-A79F-2A4C0A79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F8B-3B62-416F-8152-15467EDE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82F-355A-4EFC-BFF6-1A9FF49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3A17-6E03-4F46-A24D-B064F40B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824-A78A-42D7-AC88-E9268691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FEF-1348-404D-B82E-711B7C9E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D05-18CC-4942-B593-5DF1CC41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F3B-AF2F-4BE7-9696-84FDE6C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4E34-A7DE-4A92-969A-D775BB30B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