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96409"/>
        <c:axId val="47678663"/>
      </c:barChart>
      <c:catAx>
        <c:axId val="7369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8663"/>
        <c:crosses val="autoZero"/>
        <c:auto val="1"/>
        <c:lblAlgn val="ctr"/>
        <c:lblOffset val="100"/>
        <c:noMultiLvlLbl val="0"/>
      </c:catAx>
      <c:valAx>
        <c:axId val="47678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94B-12F8-485F-B9ED-A84478D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A0B-51B4-4A73-AE13-1DC30B7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7B1-91AD-49A6-9BCF-6E6BC90B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3DE-B949-4C8B-83E5-7F44C81B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8C8-F00F-447C-B9EB-47EF9BF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4F4-6807-4D44-BE31-7D0D3D9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8F8-EDF1-409D-B0C6-3B8DE2E2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58C-DFC5-4750-9E59-7D288E1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FE2-2950-4732-A70F-7651F02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DDF-9652-4F49-A32A-F861503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01F-8A83-4AC7-A538-3057D24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BFF-2B70-4976-AED3-CE8C5FC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46F6-759A-4B42-88E6-839E5D7B9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