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668276"/>
        <c:axId val="77660715"/>
      </c:barChart>
      <c:catAx>
        <c:axId val="216682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660715"/>
        <c:crosses val="autoZero"/>
        <c:auto val="1"/>
        <c:lblAlgn val="ctr"/>
        <c:lblOffset val="100"/>
        <c:noMultiLvlLbl val="0"/>
      </c:catAx>
      <c:valAx>
        <c:axId val="776607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6682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AED3-E41B-49B1-8DD3-359997C81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6A3F-EFE6-4928-A38E-A596AC927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D43F-DA48-40C7-B124-EF7B09959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313F-7AEA-45C1-8A89-3F892400E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4E98-19A3-4453-BCD7-529A6BF72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62E0-8EF8-4890-A46F-B1D877A26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105B-308A-4C75-AD66-A38F7C6FF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8734-7107-433A-BB41-D641E3C80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0F41-3CEF-4777-89A3-E27E0BC93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555D-4315-4E65-BAAB-C0C6F27F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91E2-CA1C-435F-B3BC-FEFE0F63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B649-46D3-4B0A-9F8C-E7367B46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2E0AB9-C3F6-435D-AE5D-3E38F6ECDCC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